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245-F080-49D2-9558-357F4087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099-2AB0-49AA-B1EC-FF844660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1AA-7A5A-45F8-AE41-43060E66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30A-F8B5-4187-95C7-C3A65C14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1BE9-529B-4C64-9581-33FEFD4F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C362-60C6-45DC-9AC5-8030BA21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2AA6-BE6C-4142-891A-BC03AEF9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3E9B-6524-4E60-A0EE-20197036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AC3C-500A-407E-AF57-DABF904A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E569-1F2F-48BF-8D22-E4A09203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6405-8C98-4EFC-A63B-45AD861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B48-0288-4914-8612-17F46A47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7804-CC2E-458B-B8F9-CD6FD84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B6BF-0A52-40B0-B46A-69B3DDC8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40EC-0A71-4F4C-A044-F827E1A5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3EA6-D559-4610-8C2A-214577A1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2EDD-C8BF-4935-A2EB-D5DFCA28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A512-3866-41E0-BA19-F6FAEDF8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8233-1ACD-4CED-8E94-B2A6B372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B832-FF3A-4AE0-A4CD-92F3ACF5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35FA-FAB6-40AB-8703-087633FF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B224-067C-4730-B02B-D8D38FBD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93B-D9EF-4BF2-8776-10B14772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B4BD-C095-464E-A24E-18CDC913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F438-9049-4CB6-A8C8-5BA39E2D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A3C8-2EC2-4910-85E2-CA503DDB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0447-1C6A-44C9-94B0-976AE122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52C6-AB20-4560-88D6-1A550890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35A6-1B1A-4FB8-896F-E16F1531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5989-A474-4D52-BF29-E2777F54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1A91F-96E2-46CA-A46A-31CCC250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D616-C40F-4E61-B8B6-57BE8057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2AAF-5584-4E1B-984C-DA8F64ED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024-C83A-42CD-9994-81B3442A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F52F4-D318-4727-9044-4EB329CF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A19B-FFF2-48E5-92CF-3F90C90C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C388-8F82-4FEF-8BBA-43A210C2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6938D-D34B-4C7F-B1A5-1E57CD9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B449-66B1-4A98-9C35-35841BAD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6E14-F929-43CB-A179-4C5AA4A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38FC-1DC9-40EC-9D4F-7D6C5BFF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E8025-2CBF-4EC3-A3C9-61CDA122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874F-B123-4DA2-BBF0-F7B75FA1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57C-43B9-43A0-BC66-1815181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494-093B-4568-A357-2187297B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0A8-0C30-43AB-BFCF-D11BAB4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249-90C8-4145-8271-9326FCA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604-D310-4BD3-A89E-ADF678F9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66BD-634C-464A-B3F6-5CB3B19B1E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8E0E-A8B9-4D39-8DD7-95F65E87BD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19A6-5F35-467C-9B25-3D9B75BE1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9E46-7A16-450E-AFCC-99B5310C1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4th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FREE!!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Easily download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Non-credible autho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Sometimes contains virus’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Lack of tech suppor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Freewar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828800" y="20570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vailable to anyo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Open to change / improve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Sharing changes = better softwa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Open-sourc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638680" y="2743200"/>
            <a:ext cx="3200400" cy="250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FREE!!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Collaborative develop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Lack of account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Lack of financial benefit restricts grow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Open-sourc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Menaces on the Ne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28800" y="15238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ftware (programs) that infiltrates comput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o consent from the computer owner / u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stile, malicious or just anno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885840" y="4572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Malware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981080" y="24382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dboys of the ne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us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ywa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wa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580920" y="9144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Malware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677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puter program that reprodu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0,000 today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roy files, take up space, corrupt operating syste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er in downloads or email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248160" y="304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Viru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677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ftware that collects and shares personal info without con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ites visite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dit card inf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248160" y="304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pyware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677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ftware that plays ads on your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ps comm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er with many file-sharing programs (Kazaa, etc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r toolba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248160" y="304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dware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logy Lesson Planning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00800" y="228600"/>
            <a:ext cx="2362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overview– Purchase, Shareware, Freeware, 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aces on the Net; virus’ and spy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ng text, data,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Technology in 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eyboarding – the new handwri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cursive writing lost to the ages?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pends on technical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corporates other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mbedd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n facilitate the move to constructivist, child-centered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munity of Learners” – lines between “student” and “teacher” bl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mbedd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dentif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s (how many? type? Internet?  Software?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eras (still and video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tegrat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te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our old lesson plans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lleagues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tegrat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ject-ba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directed / teacher assis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down school walls – reach into community / worl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Integrating Technology in Your Classroom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Very basic form of presenting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mon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S Wor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dperfec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nOffice.org (free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py and paste (mark, ‘Edit-Copy’, ‘Edit-paste’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can be made larger / smaller via ‘Format-Font’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ld, italic, underlin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colour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be placed in document via ‘Edit-Copy’, ‘Edit-Paste’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at-Picture’ will allow size and layout chang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ypes of Software     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in School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with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ent authorship (creative writing, etc.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earch, repor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ing text for copy/paste to other documen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sy to use, simpl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ing / assessment easy under ‘Insert-Comment’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be printed, manipulated prior to posting on web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c information onl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multi-media (video, etc.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Word Process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chnology is embraced by some who see it as a panacea for creating a global environment that liberates and democratizes. Others see technology as an evil that permeates our culture with filth and is fraught with dan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re does the truth lie? Is technology a necessary evil or a powerful tool for positive social chang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me with your personal blog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 to question on class discussion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per Assignment – read articles, watch video, begin respons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look at lesson / technology plan and group projects next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81080" y="24382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oftware in schools comes from many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soft, Apple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ll compani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3580920" y="9144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oftware in the School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82844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User generally pays for licens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Limits on use, modification, copy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Most common for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Proprietary (purchase)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295800" cy="2202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109692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Financial return encourages innov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Support may ce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Proprietary (purchase)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828440" y="205704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User downloads for trial before pay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Try before you buy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Sharewar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563920" cy="31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Users can test drive softwa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Popular with gam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Software may stop working if payment not receiv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High degree of support l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Shareware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828800" y="2057040"/>
            <a:ext cx="3733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Free for anyone to us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opyright continues with auth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Give something to the community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01318"/>
                </a:solidFill>
                <a:latin typeface="Tahoma"/>
              </a:rPr>
              <a:t>Freeware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172200" y="2590920"/>
            <a:ext cx="238140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04T20:30:28Z</dcterms:modified>
  <cp:revision>18</cp:revision>
  <dc:subject/>
  <dc:title>Welcome to  ED3862</dc:title>
</cp:coreProperties>
</file>